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нтегрисане академске студије</a:t>
            </a:r>
            <a:r>
              <a:rPr b="0" lang="sr-RS" sz="2800" spc="-1" strike="noStrike">
                <a:solidFill>
                  <a:srgbClr val="000000"/>
                </a:solidFill>
                <a:latin typeface="Arial"/>
              </a:rPr>
              <a:t> медицине</a:t>
            </a:r>
            <a:endParaRPr b="0" lang="en-US" sz="28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мет: Енглески јези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Arial"/>
              </a:rPr>
              <a:t>Предавач: Душица Лази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cle</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cle is a tissue or organ of the human and animal body characterized by the ability to contract, usually in response to a stimulus from the nervous system.  The basic unit of all muscle is the myofibril, a minute, threadlike structure composed of complex proteins. Each muscle cell, or fiber, contains several myofibrils, which are composed of regularly arranged myofilaments of two types, thick and thin. Each thick myofilament contains several hundred molecules of the protein myosin. Thin filaments contain two strands of the protein actin. The myofibrils are made up of alternating rows of thick and thin myofilaments with their ends interleaved...................</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fibr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fila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s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rcolemm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eat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muscles in the bod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basic unit of all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yofila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muscles diff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triated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can smooth muscle be f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contractions of skeletal muscle responsible f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are muscles classif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muscle is used in chewing f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calcium so important for muscle contra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words in the lesson that mean:</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fontScale="97000"/>
          </a:bodyPr>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that encourages activity</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ne threadlike structur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ning or increase in tension of functioning muscle</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e consciously or intentionally</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anous sheath</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ough, nonvascular connective tissue present in certain tubular structures</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ickness of material (one of several) over a surface or forming one division </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umber of things fastened, tied or wrapped together</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of the muscles of mastication; its action is to close the jaw</a:t>
            </a:r>
            <a:endParaRPr b="0" lang="en-US" sz="2000" spc="-1" strike="noStrike">
              <a:solidFill>
                <a:srgbClr val="000000"/>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largement of an organ or part due to the increase in size of the cells composing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Past Continuous or Simple Past Tense:</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open) three new hospitals in this region last ye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le the patient (try) to explain his symptoms, the doctor (listen) to him attentive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rse (submit) her report yesterday morn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weeks ago, many scientists (take) part in this important cong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prepare) our exercises at a quarter to nine yester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acher (write) on the blackboard when the students (come) i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he (enter) the room, she (notice) that her brother (read) a boo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be) in a very difficult position. He (not/know) what to 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negatives from the following words using the prefixes  UN-, DIS-, IM-, IR-, and IN-</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di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t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i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ci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etr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function of:</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yofibr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ooth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al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diac musc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t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late into English:</a:t>
            </a:r>
            <a:endParaRPr b="0" lang="en-US" sz="24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Мишићна атрофија настаје сваки пут када се мишић не користи или када се он користи само за слабе контракције. Атрофија се посебно јавља када су удови у гипсу, а мишићи су на тај начин спречени да се контрахују. Ако се мишић не користи један или два месеца, његова величина се може упола смањити. Када је мишић денервисан, одмах почиње да атрофира и почиње да се смањује. Ако се мишић реинервише у току прва три до четири месеца, обично се врати пуна функција мишића, а ако денервација траје дуже од четири месеца поједина мишићна влакна одумиру. Реинервација после две године ретко може имати за резултат враћање било које функције. Патолошке студије показују да су мишићна влакна до тог времена прожета машћу и фиброзним ткив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12-09-17T17:54:17Z</dcterms:modified>
  <cp:revision>12</cp:revision>
  <dc:subject/>
  <dc:title>Slide 1</dc:title>
</cp:coreProperties>
</file>